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2EE-4E01-4CBD-9FE3-23FF1F83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89E-6DD8-4966-B569-1A37FCB2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099-2994-4F98-9EBB-FAFDF023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08D-D488-49F6-92A3-ABC0C71F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6EE-8315-44D6-927B-90F615D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2B3-BC25-4346-A093-8C377109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E1C-C98A-47E7-B399-C7DB8B6E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6D2-D9B9-42A8-B3CB-13FDDAAA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8DF-F657-4BD4-82A2-1E54697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549-537D-4762-8A33-3FB648F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8DC-D718-4F55-8271-237A1CF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C79-9F28-4554-9C00-C951F9A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A18-D02F-4C7F-AF99-0AF1B2760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allpapers[nnm-club.ru]\57702-1366x768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599640" y="214200"/>
            <a:ext cx="515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cde5"/>
                </a:solidFill>
                <a:latin typeface="Calibri"/>
              </a:rPr>
              <a:t>Виды односостав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cde5"/>
                </a:solidFill>
                <a:latin typeface="Calibri"/>
              </a:rPr>
              <a:t>предло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372000" y="585792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9cde5"/>
                </a:solidFill>
                <a:latin typeface="Calibri"/>
              </a:rPr>
              <a:t>Андреева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660760" y="285840"/>
            <a:ext cx="38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ыводы по проек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42960" y="10717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ые предложения делятся на два вида в зависимости от наличествующего главного члена (либо подлежащее , либо сказуем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ое предложение с главным членом подлежащим – назывное пред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ые предложения с главным членом сказуемым делятся на четыре ви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227240" y="3786120"/>
            <a:ext cx="353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бщ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личное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:\wallpapers[nnm-club.ru]\57702-1366x768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3214800" y="1214280"/>
            <a:ext cx="5357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Бунеев Р. Н., Бунеева Е.В., Комиссарова Л. Ю., Текучева И. В. Русский язык. Учебник для 8-го класса основной школы. М.: Баллас, 2003. – 304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Русский язык: Учеб. Для 8 кл. общеобразоват. Учреждений / С. Г. Бархударов, С. Е. Крючков, Л. Ю. Максимов, Л. А. Чешко. – 20-е изд. – М.: Просвещение, 1998. – 191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Таблица-памя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Определения, особенности односоставных предложений, примеры,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307680" y="28584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155040" y="42876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Предложения</a:t>
            </a: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7"/>
          <p:cNvCxnSpPr/>
          <p:nvPr/>
        </p:nvCxnSpPr>
        <p:spPr>
          <a:xfrm flipH="1">
            <a:off x="2856960" y="1071360"/>
            <a:ext cx="85788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/>
          <p:nvPr/>
        </p:nvCxnSpPr>
        <p:spPr>
          <a:xfrm>
            <a:off x="5571000" y="1071360"/>
            <a:ext cx="7866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TextBox 18"/>
          <p:cNvSpPr/>
          <p:nvPr/>
        </p:nvSpPr>
        <p:spPr>
          <a:xfrm>
            <a:off x="1154520" y="20718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двусоста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5724360" y="2071800"/>
            <a:ext cx="25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однососта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21"/>
          <p:cNvSpPr/>
          <p:nvPr/>
        </p:nvSpPr>
        <p:spPr>
          <a:xfrm flipV="1">
            <a:off x="500040" y="335736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24"/>
          <p:cNvSpPr/>
          <p:nvPr/>
        </p:nvSpPr>
        <p:spPr>
          <a:xfrm flipV="1">
            <a:off x="2428920" y="335736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25"/>
          <p:cNvSpPr/>
          <p:nvPr/>
        </p:nvSpPr>
        <p:spPr>
          <a:xfrm flipV="1">
            <a:off x="2428920" y="350028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6"/>
          <p:cNvSpPr/>
          <p:nvPr/>
        </p:nvSpPr>
        <p:spPr>
          <a:xfrm flipV="1">
            <a:off x="5286240" y="385740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7"/>
          <p:cNvSpPr/>
          <p:nvPr/>
        </p:nvSpPr>
        <p:spPr>
          <a:xfrm flipV="1">
            <a:off x="7572240" y="428616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8"/>
          <p:cNvSpPr/>
          <p:nvPr/>
        </p:nvSpPr>
        <p:spPr>
          <a:xfrm flipV="1">
            <a:off x="7572240" y="414324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1857240" y="300024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0"/>
          <p:cNvSpPr/>
          <p:nvPr/>
        </p:nvSpPr>
        <p:spPr>
          <a:xfrm>
            <a:off x="4291200" y="371484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572160" y="400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32"/>
          <p:cNvCxnSpPr/>
          <p:nvPr/>
        </p:nvCxnSpPr>
        <p:spPr>
          <a:xfrm>
            <a:off x="7571160" y="2714400"/>
            <a:ext cx="7866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33"/>
          <p:cNvCxnSpPr/>
          <p:nvPr/>
        </p:nvCxnSpPr>
        <p:spPr>
          <a:xfrm flipH="1">
            <a:off x="5500080" y="2714400"/>
            <a:ext cx="85788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71680" y="500040"/>
            <a:ext cx="792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дносоставное предложение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это предложение, грамматическая основа которого состоит только из одного главного члена, который равен по форме либо подлежащему, либо сказуем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88120" y="42148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Вечереет. На улице стало прохладно. Тиш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5"/>
          <p:cNvSpPr/>
          <p:nvPr/>
        </p:nvSpPr>
        <p:spPr>
          <a:xfrm>
            <a:off x="857160" y="485784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6643800" y="471492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3857760" y="471492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57160" y="471492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>
            <a:off x="5286240" y="4714920"/>
            <a:ext cx="121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>
            <a:off x="3857760" y="485784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13"/>
          <p:cNvSpPr/>
          <p:nvPr/>
        </p:nvSpPr>
        <p:spPr>
          <a:xfrm>
            <a:off x="5286240" y="4857840"/>
            <a:ext cx="121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20280" y="35712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иды односоставных предлож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371600" y="1500120"/>
            <a:ext cx="405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ыв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определ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неопредел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обобщ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без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189160" y="28584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азыв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28800" y="1071720"/>
            <a:ext cx="742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ин из типов односоставных предложений, форма главного члена в которых имеет сходство в выражении с подлежа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95480" y="2928960"/>
            <a:ext cx="429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ень. Сказочный черто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ь открытый для обз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еки лесных доро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глядевшихся в оз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1071720" y="3429000"/>
            <a:ext cx="128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3857760" y="342900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0"/>
          <p:cNvSpPr/>
          <p:nvPr/>
        </p:nvSpPr>
        <p:spPr>
          <a:xfrm>
            <a:off x="1143000" y="428616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57268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239480" y="28584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предел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42960" y="10717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1 или 2 лица единственного или множественного числа изъявительного или повелительного накло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808200" y="3500280"/>
            <a:ext cx="510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гляди же с тоской на доро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за тройкой во след не спеш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4143240" y="4786200"/>
            <a:ext cx="1428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8"/>
          <p:cNvSpPr/>
          <p:nvPr/>
        </p:nvSpPr>
        <p:spPr>
          <a:xfrm>
            <a:off x="4143240" y="4929120"/>
            <a:ext cx="1428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857160" y="4071960"/>
            <a:ext cx="1428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>
            <a:off x="857160" y="3929040"/>
            <a:ext cx="1428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назад 12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136880" y="28584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определ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8760" y="114300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3 лица множественного числа настоящего и будущего времени в изъявительном и повелительном наклонении и множественного числа прошедшего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78160" y="3357720"/>
            <a:ext cx="49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все к нему езж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так как с заднего крыль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кновенно подав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му донского жереб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шь только вдоль большой дор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лышат их домашни дроги,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упком оскорбясь так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дружбу прекратили с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714240" y="564372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714240" y="557208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Управляющая кнопка: назад 8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53680" y="28584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бобщ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28760" y="10717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1 или 2 лица изъявительного или повелительного наклонений или 3 лица множественного числа изъявительного накло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520200" y="414324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пешишь – людей насмеши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7"/>
          <p:cNvSpPr/>
          <p:nvPr/>
        </p:nvSpPr>
        <p:spPr>
          <a:xfrm>
            <a:off x="3786120" y="4643280"/>
            <a:ext cx="185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>
            <a:off x="3786120" y="4714920"/>
            <a:ext cx="1857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>
            <a:off x="571680" y="4643280"/>
            <a:ext cx="1785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>
            <a:off x="571680" y="4714920"/>
            <a:ext cx="1785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назад 13"/>
          <p:cNvSpPr/>
          <p:nvPr/>
        </p:nvSpPr>
        <p:spPr>
          <a:xfrm>
            <a:off x="857268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05280" y="42876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Без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дин из типов односоставных предложений, в которых нет и не может быть подлежащего. Сказуемое в них может быть выражено: Безличным глаголом, личным глаголом в значении безличного, кратким страдательным причастием в форме среднего рода, словом категории состояния, инфинитивом, безличным вспомогательным глаголом с инфинитивом, отрицательным словом нет, нету в сочетании с родительным падежом существительного или местоимения, безличной формой глаголов быть, стать, показаться с отрицанием, существительным в родительном падеже с отрицанием 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85840" y="53578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окном начинало темнеть, и принцу ужасно хотелось сбежать с этого б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6357960" y="571500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6357960" y="578628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9"/>
          <p:cNvSpPr/>
          <p:nvPr/>
        </p:nvSpPr>
        <p:spPr>
          <a:xfrm>
            <a:off x="1643040" y="5786280"/>
            <a:ext cx="235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1643040" y="5715000"/>
            <a:ext cx="235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назад 11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15:07Z</dcterms:created>
  <dc:creator>Владелец</dc:creator>
  <dc:description/>
  <dc:language>en-US</dc:language>
  <cp:lastModifiedBy>мои друзья</cp:lastModifiedBy>
  <dcterms:modified xsi:type="dcterms:W3CDTF">2011-05-13T10:48:25Z</dcterms:modified>
  <cp:revision>28</cp:revision>
  <dc:subject/>
  <dc:title>Слайд 1</dc:title>
</cp:coreProperties>
</file>